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F03-17B5-468F-B309-45FA1D80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05B-6F2E-4182-B21F-C0019A7E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C3C-3982-40D3-A998-444715EF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770-03B9-4F36-B247-90DDEA38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4567-D5D2-48EE-A863-CC268571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9A37-133A-48DD-84E3-7B338D2D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1791-7BFB-40B2-839C-DAC318EF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C871-3FD4-4112-971E-5CA2B942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6A11-E0F6-4C6D-9545-68660B28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C9E4-4CFA-4186-9FD7-03AD9043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3E70-DEEB-4E9C-AD30-D7ABB3C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912-E8DD-4267-BBA9-4180226F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8C30-E3A4-4F56-8D0E-177121DE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5EE5-CAEC-4E2D-8BA3-77CC5BBD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DA96-076B-4055-9E37-55EA626A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A338-D016-4379-BF66-C6BF98FE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0293-1A9F-445B-8D0A-B7C46469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B14-60E5-4F06-9314-7F1DF051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21C-A180-4B7C-99B3-1BD1B61C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5B1-EE5E-443F-9E70-D8409B00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686-9AE1-4189-866F-38DBAB23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447-B42F-47F2-9C64-4D886812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B5E-D08B-461F-99E9-5EFB6316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62E-83A2-4888-AA53-D8F8FB92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6396-FD9C-4C8C-B22A-31EDA9E13814}" type="slidenum"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E6B4-87C1-408D-B7C5-8657F2071B97}" type="slidenum"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bf5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f5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bf5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bf5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bf5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bf5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4723920"/>
            <a:ext cx="335304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6:58:34Z</dcterms:created>
  <dc:creator>jeanne butcher</dc:creator>
  <dc:description/>
  <cp:keywords/>
  <dc:language>en-US</dc:language>
  <cp:lastModifiedBy>jeanne butcher</cp:lastModifiedBy>
  <dcterms:modified xsi:type="dcterms:W3CDTF">2007-07-15T20:43:30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01033</vt:lpwstr>
  </property>
</Properties>
</file>